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5A2-E0FA-46B1-8265-D13374DB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C86-8B52-4AD8-94D0-6793E66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DE7-0D01-4542-AF45-0090B25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F21-46B3-4993-98C0-072FF30B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9A9-82AD-4C3F-836E-3CADED5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B3D-702A-4538-A23B-2C01DACE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9BC-79D4-4C1B-B16E-40620EC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D7A-C765-4D78-9175-A0EA6BC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DFC-AA6E-4E06-8A67-D26F022E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897-60CB-4116-AB07-CF51DD5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7AE-6BE0-4293-9236-F380624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E27-D787-40DE-8151-AAD7DF6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7A2-BE23-4185-9819-A043C21FE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196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aenzer2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098800" cy="361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OP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990720"/>
            <a:ext cx="25905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r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stres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munika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ompliz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z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ieren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410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Kleine Bewegungspaus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800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057400"/>
            <a:ext cx="74674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e kennen alle die Situ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 Seminar beginnen die ersten, zu gähnen und nach fris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Luft zu japs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m Kongress fühlen sich die Köpfe voll und schwer an, nich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geht mehr hinei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in der Firma gucken die Kollegen aus dem Fester, rauch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werden gereizt, klagen über Nackenschmerz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562720"/>
            <a:ext cx="84582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.. jetzt ist Zeit für 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leine Bewegungspause!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09480" y="19890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ine kurze Bewegungspause sei es von 1-2 Minuten am Arbeitsplatz oder für zehn Minuten in der Pause anstelle der Zigarette und dem Kaffe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41720"/>
            <a:ext cx="426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iviert den Kreis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ässt den Stress abgl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urchblutet die Muskulatur n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öffnet den Kop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5013360"/>
            <a:ext cx="70866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.. danach gehen die Aktivitäten viel leichter weite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htung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Fünf mal 10 Minuten in der Woche ist fast sovi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wie eine Gymnastik/Sportstu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773360"/>
            <a:ext cx="8138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Bewegungspause gemeinsam durchgeführt, heißt auch eine kommunikative Begegnung schaffen, die die soziale Atmosphäre entspan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 der Gestaltung der Bewegungspause ist jedoch zu beach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32004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Organ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733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ar begrenzter Rahmen und zeitliche Fest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2670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Übungen, die von jedem nach vollzogen we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1055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bau der Hemmungen, sich voreinander zu be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638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fache Anregungen für die Teilnehmer/-innen für den All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9480" y="2060640"/>
            <a:ext cx="792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aben Sie Lust, die „Kleine Bewegungspause“ einzuführen, bieten wir Ihnen Hilfestellung bei der Gestaltung in einem 3-stündigen work-shop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1417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„Kleine Bewegungspause“ – Bedeutung und Verwendung im All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71628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ungen und Programmzusammenstel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Kreislaufanregung und K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Rücken- und Funktionsgymna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Körperwahrnehm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73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ps zum Aufbau und zur Durchführung von 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taenzer2" descr=""/>
          <p:cNvPicPr/>
          <p:nvPr/>
        </p:nvPicPr>
        <p:blipFill>
          <a:blip r:embed="rId4"/>
          <a:stretch/>
        </p:blipFill>
        <p:spPr>
          <a:xfrm>
            <a:off x="3348000" y="1700280"/>
            <a:ext cx="2432160" cy="4189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27813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itere Informationen erhalten Sie b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429000"/>
            <a:ext cx="85341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ndessportbund Bre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Kleine Bewegungspause“ - JETZ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lefon 0421/79287-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Renate Jon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der  www.lsb-breme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4:09:15Z</dcterms:created>
  <dc:creator>hirsch</dc:creator>
  <dc:description/>
  <dc:language>en-US</dc:language>
  <cp:lastModifiedBy>Jonas</cp:lastModifiedBy>
  <dcterms:modified xsi:type="dcterms:W3CDTF">2003-11-11T10:28:24Z</dcterms:modified>
  <cp:revision>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35539890</vt:r8>
  </property>
  <property fmtid="{D5CDD505-2E9C-101B-9397-08002B2CF9AE}" pid="3" name="_AuthorEmail">
    <vt:lpwstr>jonas@lsb-bremen.de</vt:lpwstr>
  </property>
  <property fmtid="{D5CDD505-2E9C-101B-9397-08002B2CF9AE}" pid="4" name="_AuthorEmailDisplayName">
    <vt:lpwstr>Renate Jonas</vt:lpwstr>
  </property>
  <property fmtid="{D5CDD505-2E9C-101B-9397-08002B2CF9AE}" pid="5" name="_EmailSubject">
    <vt:lpwstr>Bewegungspause</vt:lpwstr>
  </property>
</Properties>
</file>